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1D72-0A38-49AB-B2F2-84D3D1184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Concepts: Variation and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nd 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te” over other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expressed, while a recessive allele is 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that are suppressed in the presence of a dominant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on of available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individuals =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R alleles = 25/100 = 25% 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25 is the frequency of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W alleles = 75/100 W = 75% 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0.75 is the frequency of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are percentages, and the total percentage must be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% = 1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g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centage of each phenotype present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define evolution as the change in genotype frequenci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stuff of evolu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genetic variation, there can be no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ge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pp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phenotypic variation not as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ic variation is the result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maternal or paternal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letely heritab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nd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nditions under which evolution can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ive must be m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is violated, the population will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Five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change in allele frequencies due to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te random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lleles do not enter the population via immigrating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does not occ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E: 5 vio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five ways in which populations CAN evol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(Gene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pulation sizes (Genetic dr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total of all allele frequencies is equal to 1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frequency of Allele 1 is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requency of Allele 2 i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of H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because with two alleles we have three geno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, pq, and 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ies of these genotypes are equal to (p + q)2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, 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population of butterflies has 50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alleles are in the population at one loc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50 individuals, there are 100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, q = 1 - p = 1 - 0.40 = 0.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HWE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 and p = 0.40 and q = 0.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40) X (0.40) = 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2 X (0.40) X (0.60) = 0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= (0.60) X (0.60) = 0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of a chromosome that encodes the information to build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known as a “loc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s the source of genetic vari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ther source for entirely new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y widely acro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i (plural of l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by phenotypic effects in hum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of 10-6 to 10-5 per gamete pe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umber of gen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range from about 30,000 to over 100,0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everyone is a muta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 of the HIV–AIDS vir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error every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the HIV–AIDS geno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4 to 105 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bout one mutation per replic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V-AIDS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s of mutation generally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a high load of deleterious (harmful)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 substit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chance errors during synthesis or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w alleles (may or may not change phenotyp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unequal crossing over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redundant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may mutate fre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ay thus gain new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du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errors in meiosis (mitosis in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new species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inability to interbr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peaki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have littl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actuall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are benef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ties of the information at a particular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rganism has two alleles (can be same or differe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mit to the number of allel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mutations lead to big chan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many small mutations, each with a small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several small mutations, each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large mutation with a larg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in a regulatory sequence (affects regulation of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pedia f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hard to find in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approximate in many large populations over short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can lead to changes in effective population siz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phant seal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Drif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pies of the same allele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fferent alleles at one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information contained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lleles are actually present at a l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available: R and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geno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 of an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from the underly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co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Pink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les R (red) and w (white), simpl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: RR, Rw, 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: Red, Red,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128-0AAD-42E2-909E-DD7D546D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AC4-E6EA-493C-BD50-2A62EB4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139-E71A-4513-BD25-08B3AFC0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CCE-2DED-4B40-8134-77FD1870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8C0-8395-4D74-9E1F-5012ADC4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3DD-08CC-446A-8B42-426B8DFE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1F8-FF56-4643-8C8F-7B0B48D4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068-785E-4DBC-9F4C-FD870FD6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140-C781-451D-AB2E-AF3653F6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A36-67D8-456F-8A2B-7F2102D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BCC-F12B-4254-8ACE-ECD2A6F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856-0AAC-4C40-B4BF-1FBA35E2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A32D-FCD9-4457-B411-EC00D8A4E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ary Concepts: Variation and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February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ominant and Recessive Allel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ant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te” over other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expressed, while a recessive allele is sup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ssive alle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that are suppressed in the presence of a dominant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 Pool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llection of available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stribution of these alleles across the population is not taken into account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y of an allele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individuals = 100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 R alleles = 25/100 = 25% 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25 is the frequency of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5 W alleles = 75/100 W = 75% 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0.75 is the frequency of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 frequenc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frequencies for each allele in a population is always equal to 1.0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ies are percentages, and the total percentage must be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 = 1.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Other important frequenc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g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e 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 of each phenotype present in a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e can defi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the change in genotype frequencies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Vari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y stuff of evolu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genetic variation, there can be no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ige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2006640" cy="252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3987720"/>
            <a:ext cx="3492360" cy="287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2374920" cy="19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5715000" y="4040280"/>
            <a:ext cx="3429000" cy="281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5"/>
          <a:stretch/>
        </p:blipFill>
        <p:spPr>
          <a:xfrm>
            <a:off x="3124080" y="4305240"/>
            <a:ext cx="3111480" cy="2552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6"/>
          <a:stretch/>
        </p:blipFill>
        <p:spPr>
          <a:xfrm>
            <a:off x="3346560" y="2521080"/>
            <a:ext cx="2450880" cy="181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7"/>
          <a:stretch/>
        </p:blipFill>
        <p:spPr>
          <a:xfrm>
            <a:off x="6337440" y="0"/>
            <a:ext cx="2806560" cy="2908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uppie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51080" y="1739880"/>
            <a:ext cx="6440400" cy="4813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y is phenotypic variation not as important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typic variation is the result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ic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al var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maternal or paternal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completely herita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and Terminolog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s within populations or species in gene frequencies and distributions of tra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level changes, e.g. generation of new species or higher–level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ardy-Weinberg Equilibrium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conditions under which evolution can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five must be me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y one is violated, the population will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Five condi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t change in allele frequencies due to 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s of the population mate random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alleles do not enter the population via immigrating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pulation is l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 does not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WE: 5 viol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five ways in which populations CAN evol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random m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ion (Gene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population sizes (Genetic drif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the total of all allele frequencies is equal to 1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requency of Allele 1 is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frequency of Allele 2 is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+ q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ath of HW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, because with two alleles we have three geno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, pq, and q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equencies of these genotypes are equal to (p + 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,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population of butterflies has 5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lleles are in the population at one loc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distribution of genotype frequencies is 10 AA, 20 Aa, 20 aa, what are the frequencies of the two alleles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50 individuals, there are 100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individual has 2 A’s, for a total of 20. Each Aa individual has 1 A, for a total of 20. Total number of A = 40, out of 100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= 0.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a has 1 a, = 20, plus 2 a’s for each aa (=40), = 60/100 a, 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Or , q = 1 - p = 1 - 0.40 = 0.6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xample of HWE mat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expected genotype frequencies after one generation? (Assume no evolutionary agents are act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pq + 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 and p = 0.40 and q = 0.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40) X (0.40) = 0.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2 X (0.40) X (0.60) = 0.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a = (0.60) X (0.60) = 0.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of a chromosome that encodes the information to build a prote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 is known as a “locu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s the source of genetic variation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4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ther source for entirely new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y widely acro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lural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u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d by phenotypic effects in huma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 gamete per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number of gen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s range from about 30,000 to over 100,000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everyone is a muta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rate of the HIV–AIDS vir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error every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ze of the HIV–AIDS gen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e 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about one mutation per repli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IV-AIDS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tes of mut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s of mutation generall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s to a high load of deleterious (harmful)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 may be a way to eliminate or reduce the load of deleterious mut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pair sub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chance errors during synthesis or repair of D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new alleles (may or may not change phenotyp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 of unequal crossing over during mei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redundant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may mutate fre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y thus gain new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Type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osome du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sed by errors in meiosis (mitosis in pla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polyploi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lead to new species of 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inability to interbr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ffects of mu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speak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utations have littl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re actually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 are bene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llel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ies of the information at a particular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rganism has two alleles (can be same or differen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limit to the number of alleles in a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can mutations lead to big change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many small mutations, each with a smal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several small mutations, each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large mutation with a larg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tation in a regulatory sequence (affects regulation of develop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rmal fly he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Antennapedia f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 random mating, the chance of any individual in a population mating is exactly the same as for any other individual in the po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, hard to find in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approximate in many large populations over short periods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olations of random mating lead to changes in genotypic frequencies, not allele frequ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can lead to changes in effective population siz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Elephant seal video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Non-random ma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in the effective population size leaves a door open for the effects of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Drif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etic Drift Activ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Zygosit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opies of the same allele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terozygo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 alleles at one l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information contained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alleles are actually present at a l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available: R and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e genotyp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, RW, 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an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from the underlying gen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1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co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Pink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s R (red) and w (white), simple 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: RR, Rw, 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enotypes: Red, Red,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8:57:40Z</dcterms:created>
  <dc:creator>Cheryl A. Heinz</dc:creator>
  <dc:description/>
  <dc:language>en-US</dc:language>
  <cp:lastModifiedBy>LEGION2</cp:lastModifiedBy>
  <cp:lastPrinted>2003-02-06T20:57:53Z</cp:lastPrinted>
  <dcterms:modified xsi:type="dcterms:W3CDTF">2016-01-12T12:54:58Z</dcterms:modified>
  <cp:revision>28</cp:revision>
  <dc:subject/>
  <dc:title>Evolutionary Concepts: Variation and Mutation</dc:title>
</cp:coreProperties>
</file>